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0DA-5BFB-48E7-ABFD-55E61596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B94-447C-44B9-B3A6-2E77DE6C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9AC-1BF4-432D-AD9B-3C895814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F73-2C1A-4193-A4A6-68C68206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19B2-ABF8-4F1A-8B7D-51668F76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0C99-CF5D-42D0-8181-4BCD8C06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076-E2FC-46B6-8A79-A936856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AA9-2243-449F-B2A9-DE2EBC51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BACE-DE8F-4787-BA1D-2BA4FEA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E5C6-A4F7-4EB4-B2D3-064E95EF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C6CA-4F61-40F7-B24B-F5F9036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A52-C181-41A2-B3B4-8011210B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0837-8805-478D-8210-B6A7E2B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C8B5-F1D1-4BBA-83C5-A84FA778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D2A6-AAF2-470F-BE16-EE490A22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9025-BECD-49F5-8F45-F6F2AB4D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6944-9F1E-443D-BF49-1320A719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1A2-A38D-44D8-90CB-CEB03C4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60D-28BB-4B7A-B22D-FC29BF8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0C0-55B8-400C-95CA-77EF1873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092-DA46-4EF5-A051-EBC69557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8B5-BEED-477E-B358-4F823F3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874-7102-4C74-BF14-1F31892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CBF-E5B3-4EA1-9200-6CB6D83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5772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1680" y="4303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2160" y="4006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0000" y="3747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59200" y="343080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0640" y="3176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28360" y="2633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768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2200" y="2084760"/>
                            <a:ext cx="271656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397520" y="1823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05960" y="42883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75FD-A0FA-452D-88D8-E6C7289BC3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166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5124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3708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84720" y="2394360"/>
                            <a:ext cx="248076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85880" cy="4694040"/>
              <a:chOff x="1800" y="2127240"/>
              <a:chExt cx="528588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90880" y="2127240"/>
                <a:ext cx="496800" cy="491040"/>
                <a:chOff x="4790880" y="2127240"/>
                <a:chExt cx="496800" cy="49104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807440" y="2349360"/>
                  <a:ext cx="31428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904280" y="2249280"/>
                  <a:ext cx="25524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89240" y="223812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52960" y="2134800"/>
                  <a:ext cx="22788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99480" y="2127240"/>
                  <a:ext cx="8820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A317-2867-48E6-ACCE-0C5C7EF709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etod-kopilka.ru/page-5-1-12.html" TargetMode="External"/><Relationship Id="rId2" Type="http://schemas.openxmlformats.org/officeDocument/2006/relationships/hyperlink" Target="http://fs.nashaucheba.ru/docs/270/index-1413150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4c3aa"/>
                </a:solidFill>
                <a:latin typeface="Arial"/>
              </a:rPr>
              <a:t>Внеклассное мероприятие по информатике «Турнир знатоков компьютера»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143160" y="4785840"/>
            <a:ext cx="58579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c3aa"/>
                </a:solidFill>
                <a:latin typeface="Arial"/>
              </a:rPr>
              <a:t>Хромовских  Светлана  Сергее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c3aa"/>
                </a:solidFill>
                <a:latin typeface="Arial"/>
              </a:rPr>
              <a:t>преподаватель  информатики  и физики ГБПОУ КК «КМТ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c3aa"/>
                </a:solidFill>
                <a:latin typeface="Arial"/>
              </a:rPr>
              <a:t>Конкурс «Разгадай ребус»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755640" y="5278320"/>
            <a:ext cx="7920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ы: дисплей, компьютер, передача, курсор, память, клавиш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7" name="Рисунок 10" descr="G:\Для конкурса\Ребусы\передача.png"/>
          <p:cNvPicPr/>
          <p:nvPr/>
        </p:nvPicPr>
        <p:blipFill>
          <a:blip r:embed="rId1"/>
          <a:stretch/>
        </p:blipFill>
        <p:spPr>
          <a:xfrm>
            <a:off x="1357200" y="2500200"/>
            <a:ext cx="2152800" cy="1257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1" descr="G:\Для конкурса\Ребусы\курсор.png"/>
          <p:cNvPicPr/>
          <p:nvPr/>
        </p:nvPicPr>
        <p:blipFill>
          <a:blip r:embed="rId2"/>
          <a:stretch/>
        </p:blipFill>
        <p:spPr>
          <a:xfrm>
            <a:off x="4286160" y="2500200"/>
            <a:ext cx="2357640" cy="12574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2" descr="G:\Для конкурса\Ребусы\память.png"/>
          <p:cNvPicPr/>
          <p:nvPr/>
        </p:nvPicPr>
        <p:blipFill>
          <a:blip r:embed="rId3"/>
          <a:stretch/>
        </p:blipFill>
        <p:spPr>
          <a:xfrm>
            <a:off x="1357200" y="3714840"/>
            <a:ext cx="2224080" cy="1257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13" descr="клавиша"/>
          <p:cNvPicPr/>
          <p:nvPr/>
        </p:nvPicPr>
        <p:blipFill>
          <a:blip r:embed="rId4"/>
          <a:stretch/>
        </p:blipFill>
        <p:spPr>
          <a:xfrm>
            <a:off x="4214880" y="3786120"/>
            <a:ext cx="2400120" cy="1257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4" descr="G:\Для конкурса\Ребусы\дисплей.png"/>
          <p:cNvPicPr/>
          <p:nvPr/>
        </p:nvPicPr>
        <p:blipFill>
          <a:blip r:embed="rId5"/>
          <a:stretch/>
        </p:blipFill>
        <p:spPr>
          <a:xfrm>
            <a:off x="1357200" y="1285920"/>
            <a:ext cx="2252880" cy="125712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5" descr="G:\Для конкурса\Ребусы\компьютер.png"/>
          <p:cNvPicPr/>
          <p:nvPr/>
        </p:nvPicPr>
        <p:blipFill>
          <a:blip r:embed="rId6"/>
          <a:stretch/>
        </p:blipFill>
        <p:spPr>
          <a:xfrm>
            <a:off x="4286160" y="1285920"/>
            <a:ext cx="2286000" cy="1257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c3aa"/>
                </a:solidFill>
                <a:latin typeface="Times New Roman"/>
              </a:rPr>
              <a:t>Конкурс «Прочти слова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68360" y="1052640"/>
          <a:ext cx="8229600" cy="453060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88"/>
          <p:cNvSpPr/>
          <p:nvPr/>
        </p:nvSpPr>
        <p:spPr>
          <a:xfrm>
            <a:off x="324000" y="5515200"/>
            <a:ext cx="843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тер, Трекбол, Плоттер, Джойстик, Монитор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виатура, Мышь, Камер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 из оставшихся букв: Наушн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Прямая соединительная линия 5"/>
          <p:cNvSpPr/>
          <p:nvPr/>
        </p:nvSpPr>
        <p:spPr>
          <a:xfrm>
            <a:off x="928800" y="1500120"/>
            <a:ext cx="5429160" cy="1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Прямая соединительная линия 7"/>
          <p:cNvSpPr/>
          <p:nvPr/>
        </p:nvSpPr>
        <p:spPr>
          <a:xfrm flipH="1">
            <a:off x="6357960" y="1500120"/>
            <a:ext cx="1440" cy="5000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Прямая соединительная линия 9"/>
          <p:cNvSpPr/>
          <p:nvPr/>
        </p:nvSpPr>
        <p:spPr>
          <a:xfrm>
            <a:off x="7143840" y="1500120"/>
            <a:ext cx="1285920" cy="1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Прямая соединительная линия 11"/>
          <p:cNvSpPr/>
          <p:nvPr/>
        </p:nvSpPr>
        <p:spPr>
          <a:xfrm>
            <a:off x="8429760" y="1500120"/>
            <a:ext cx="0" cy="27162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Прямая соединительная линия 17"/>
          <p:cNvSpPr/>
          <p:nvPr/>
        </p:nvSpPr>
        <p:spPr>
          <a:xfrm flipH="1">
            <a:off x="6858000" y="1928880"/>
            <a:ext cx="1440" cy="24303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Прямая соединительная линия 19"/>
          <p:cNvSpPr/>
          <p:nvPr/>
        </p:nvSpPr>
        <p:spPr>
          <a:xfrm flipH="1" flipV="1">
            <a:off x="5071680" y="4357800"/>
            <a:ext cx="178596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Прямая соединительная линия 21"/>
          <p:cNvSpPr/>
          <p:nvPr/>
        </p:nvSpPr>
        <p:spPr>
          <a:xfrm flipH="1">
            <a:off x="7857720" y="4716360"/>
            <a:ext cx="1800" cy="714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Прямая соединительная линия 23"/>
          <p:cNvSpPr/>
          <p:nvPr/>
        </p:nvSpPr>
        <p:spPr>
          <a:xfrm flipH="1" flipV="1">
            <a:off x="2071440" y="5428800"/>
            <a:ext cx="5786280" cy="18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Прямая соединительная линия 25"/>
          <p:cNvSpPr/>
          <p:nvPr/>
        </p:nvSpPr>
        <p:spPr>
          <a:xfrm flipH="1">
            <a:off x="1283760" y="1928880"/>
            <a:ext cx="1800" cy="3359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Прямая соединительная линия 27"/>
          <p:cNvSpPr/>
          <p:nvPr/>
        </p:nvSpPr>
        <p:spPr>
          <a:xfrm flipH="1">
            <a:off x="2284560" y="1857240"/>
            <a:ext cx="1440" cy="30020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Прямая соединительная линия 29"/>
          <p:cNvSpPr/>
          <p:nvPr/>
        </p:nvSpPr>
        <p:spPr>
          <a:xfrm>
            <a:off x="2286000" y="4857840"/>
            <a:ext cx="20718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Прямая соединительная линия 31"/>
          <p:cNvSpPr/>
          <p:nvPr/>
        </p:nvSpPr>
        <p:spPr>
          <a:xfrm flipV="1">
            <a:off x="4355280" y="3573360"/>
            <a:ext cx="1800" cy="1285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Прямая соединительная линия 35"/>
          <p:cNvSpPr/>
          <p:nvPr/>
        </p:nvSpPr>
        <p:spPr>
          <a:xfrm flipH="1">
            <a:off x="3355560" y="2500200"/>
            <a:ext cx="1800" cy="17161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Прямая соединительная линия 37"/>
          <p:cNvSpPr/>
          <p:nvPr/>
        </p:nvSpPr>
        <p:spPr>
          <a:xfrm flipH="1">
            <a:off x="4355640" y="1857240"/>
            <a:ext cx="1800" cy="714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Прямая соединительная линия 39"/>
          <p:cNvSpPr/>
          <p:nvPr/>
        </p:nvSpPr>
        <p:spPr>
          <a:xfrm>
            <a:off x="4357800" y="2571840"/>
            <a:ext cx="207144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Прямая соединительная линия 41"/>
          <p:cNvSpPr/>
          <p:nvPr/>
        </p:nvSpPr>
        <p:spPr>
          <a:xfrm flipH="1">
            <a:off x="6428880" y="2571840"/>
            <a:ext cx="1800" cy="6429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Прямая соединительная линия 43"/>
          <p:cNvSpPr/>
          <p:nvPr/>
        </p:nvSpPr>
        <p:spPr>
          <a:xfrm flipH="1" flipV="1">
            <a:off x="5000760" y="3214800"/>
            <a:ext cx="142848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77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77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385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385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1" dur="385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3" dur="385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385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385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7" dur="385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9" dur="385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c3aa"/>
                </a:solidFill>
                <a:latin typeface="Times New Roman"/>
              </a:rPr>
              <a:t>Конкурс «Змейка»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414" name="Picture 4" descr="Конкурс – прочти слова"/>
          <p:cNvPicPr/>
          <p:nvPr/>
        </p:nvPicPr>
        <p:blipFill>
          <a:blip r:embed="rId1"/>
          <a:stretch/>
        </p:blipFill>
        <p:spPr>
          <a:xfrm>
            <a:off x="684360" y="1700280"/>
            <a:ext cx="7773840" cy="28573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629280" y="515664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ы: Память, Сервер, Истина, Пароль, Кнопка, Вер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Прямая соединительная линия 5"/>
          <p:cNvSpPr/>
          <p:nvPr/>
        </p:nvSpPr>
        <p:spPr>
          <a:xfrm flipV="1">
            <a:off x="1212840" y="292896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Прямая соединительная линия 7"/>
          <p:cNvSpPr/>
          <p:nvPr/>
        </p:nvSpPr>
        <p:spPr>
          <a:xfrm>
            <a:off x="1214280" y="2928960"/>
            <a:ext cx="5716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Прямая соединительная линия 9"/>
          <p:cNvSpPr/>
          <p:nvPr/>
        </p:nvSpPr>
        <p:spPr>
          <a:xfrm flipH="1">
            <a:off x="1784520" y="292896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Прямая соединительная линия 11"/>
          <p:cNvSpPr/>
          <p:nvPr/>
        </p:nvSpPr>
        <p:spPr>
          <a:xfrm>
            <a:off x="1785960" y="3286080"/>
            <a:ext cx="2142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Прямая соединительная линия 13"/>
          <p:cNvSpPr/>
          <p:nvPr/>
        </p:nvSpPr>
        <p:spPr>
          <a:xfrm flipV="1">
            <a:off x="1998720" y="300024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Прямая соединительная линия 15"/>
          <p:cNvSpPr/>
          <p:nvPr/>
        </p:nvSpPr>
        <p:spPr>
          <a:xfrm flipH="1">
            <a:off x="4212720" y="3000240"/>
            <a:ext cx="1800" cy="357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Прямая соединительная линия 17"/>
          <p:cNvSpPr/>
          <p:nvPr/>
        </p:nvSpPr>
        <p:spPr>
          <a:xfrm>
            <a:off x="4214880" y="3357720"/>
            <a:ext cx="785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Прямая соединительная линия 19"/>
          <p:cNvSpPr/>
          <p:nvPr/>
        </p:nvSpPr>
        <p:spPr>
          <a:xfrm flipV="1">
            <a:off x="5000760" y="2928600"/>
            <a:ext cx="1440" cy="428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Прямая соединительная линия 21"/>
          <p:cNvSpPr/>
          <p:nvPr/>
        </p:nvSpPr>
        <p:spPr>
          <a:xfrm flipH="1" flipV="1">
            <a:off x="4714920" y="2928960"/>
            <a:ext cx="2858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Прямая соединительная линия 23"/>
          <p:cNvSpPr/>
          <p:nvPr/>
        </p:nvSpPr>
        <p:spPr>
          <a:xfrm flipH="1">
            <a:off x="7929720" y="3000240"/>
            <a:ext cx="1440" cy="357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Прямая соединительная линия 25"/>
          <p:cNvSpPr/>
          <p:nvPr/>
        </p:nvSpPr>
        <p:spPr>
          <a:xfrm flipH="1" flipV="1">
            <a:off x="7214760" y="3357720"/>
            <a:ext cx="7146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Прямая соединительная линия 27"/>
          <p:cNvSpPr/>
          <p:nvPr/>
        </p:nvSpPr>
        <p:spPr>
          <a:xfrm flipV="1">
            <a:off x="7214400" y="2928600"/>
            <a:ext cx="1800" cy="428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Прямая соединительная линия 29"/>
          <p:cNvSpPr/>
          <p:nvPr/>
        </p:nvSpPr>
        <p:spPr>
          <a:xfrm>
            <a:off x="7215120" y="2928960"/>
            <a:ext cx="2145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Прямая соединительная линия 31"/>
          <p:cNvSpPr/>
          <p:nvPr/>
        </p:nvSpPr>
        <p:spPr>
          <a:xfrm flipV="1">
            <a:off x="1212840" y="4001760"/>
            <a:ext cx="1440" cy="428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Прямая соединительная линия 33"/>
          <p:cNvSpPr/>
          <p:nvPr/>
        </p:nvSpPr>
        <p:spPr>
          <a:xfrm>
            <a:off x="1214280" y="4000680"/>
            <a:ext cx="5004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Прямая соединительная линия 35"/>
          <p:cNvSpPr/>
          <p:nvPr/>
        </p:nvSpPr>
        <p:spPr>
          <a:xfrm flipH="1">
            <a:off x="1712520" y="4002120"/>
            <a:ext cx="1800" cy="428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Прямая соединительная линия 37"/>
          <p:cNvSpPr/>
          <p:nvPr/>
        </p:nvSpPr>
        <p:spPr>
          <a:xfrm>
            <a:off x="1714680" y="4429080"/>
            <a:ext cx="2142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Прямая соединительная линия 39"/>
          <p:cNvSpPr/>
          <p:nvPr/>
        </p:nvSpPr>
        <p:spPr>
          <a:xfrm flipV="1">
            <a:off x="1926360" y="4073040"/>
            <a:ext cx="1800" cy="357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Прямая соединительная линия 41"/>
          <p:cNvSpPr/>
          <p:nvPr/>
        </p:nvSpPr>
        <p:spPr>
          <a:xfrm flipH="1" flipV="1">
            <a:off x="4143240" y="4142880"/>
            <a:ext cx="28584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Прямая соединительная линия 43"/>
          <p:cNvSpPr/>
          <p:nvPr/>
        </p:nvSpPr>
        <p:spPr>
          <a:xfrm flipH="1">
            <a:off x="4141800" y="414504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Прямая соединительная линия 45"/>
          <p:cNvSpPr/>
          <p:nvPr/>
        </p:nvSpPr>
        <p:spPr>
          <a:xfrm>
            <a:off x="4143240" y="4429080"/>
            <a:ext cx="78588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Прямая соединительная линия 47"/>
          <p:cNvSpPr/>
          <p:nvPr/>
        </p:nvSpPr>
        <p:spPr>
          <a:xfrm flipV="1">
            <a:off x="4929120" y="4071600"/>
            <a:ext cx="0" cy="358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Прямая соединительная линия 50"/>
          <p:cNvSpPr/>
          <p:nvPr/>
        </p:nvSpPr>
        <p:spPr>
          <a:xfrm flipV="1">
            <a:off x="8001000" y="400212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Прямая соединительная линия 52"/>
          <p:cNvSpPr/>
          <p:nvPr/>
        </p:nvSpPr>
        <p:spPr>
          <a:xfrm flipH="1" flipV="1">
            <a:off x="7214760" y="4000680"/>
            <a:ext cx="785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Прямая соединительная линия 54"/>
          <p:cNvSpPr/>
          <p:nvPr/>
        </p:nvSpPr>
        <p:spPr>
          <a:xfrm flipH="1">
            <a:off x="7214760" y="4002120"/>
            <a:ext cx="1800" cy="428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Прямая соединительная линия 56"/>
          <p:cNvSpPr/>
          <p:nvPr/>
        </p:nvSpPr>
        <p:spPr>
          <a:xfrm>
            <a:off x="7215120" y="4429080"/>
            <a:ext cx="21456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468360" y="1989000"/>
            <a:ext cx="8136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М О Л О Д Ц Ы 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точники материалов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etod-kopilka.ru/page-5-1-12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fs.nashaucheba.ru/docs/270/index-1413150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festival.1september.ru/articles/213026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c3aa"/>
                </a:solidFill>
                <a:latin typeface="Times New Roman"/>
              </a:rPr>
              <a:t>Конкурс «Эрудит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6516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йствие, производимое с клавиш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ведите на английский язык слово «вычислять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ль или единица в информати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ройство, служащее для отображения текстовой и графической информ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ьная программа, выполняющая нежелательные для пользователя действия на компьютер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мвол - разделит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казатель местоположения на экран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Мозг» компьюте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ломщик компьютерных програм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000560" y="1285920"/>
            <a:ext cx="1770120" cy="3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ЖАТ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7014960" y="1857240"/>
            <a:ext cx="212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7072200" y="2428920"/>
            <a:ext cx="1000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Прямоугольник 9"/>
          <p:cNvSpPr/>
          <p:nvPr/>
        </p:nvSpPr>
        <p:spPr>
          <a:xfrm>
            <a:off x="7005240" y="3714840"/>
            <a:ext cx="1191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Прямоугольник 10"/>
          <p:cNvSpPr/>
          <p:nvPr/>
        </p:nvSpPr>
        <p:spPr>
          <a:xfrm>
            <a:off x="7008840" y="4643280"/>
            <a:ext cx="1357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БЕ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Прямоугольник 11"/>
          <p:cNvSpPr/>
          <p:nvPr/>
        </p:nvSpPr>
        <p:spPr>
          <a:xfrm>
            <a:off x="7008840" y="5000760"/>
            <a:ext cx="1360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С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Прямоугольник 12"/>
          <p:cNvSpPr/>
          <p:nvPr/>
        </p:nvSpPr>
        <p:spPr>
          <a:xfrm>
            <a:off x="6945480" y="5429160"/>
            <a:ext cx="198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Прямоугольник 13"/>
          <p:cNvSpPr/>
          <p:nvPr/>
        </p:nvSpPr>
        <p:spPr>
          <a:xfrm>
            <a:off x="7080120" y="5857920"/>
            <a:ext cx="117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К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Прямоугольник 14"/>
          <p:cNvSpPr/>
          <p:nvPr/>
        </p:nvSpPr>
        <p:spPr>
          <a:xfrm>
            <a:off x="7011000" y="3000240"/>
            <a:ext cx="1684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8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38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38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85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385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385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85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38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38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85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385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85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38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85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385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385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85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38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85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385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85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38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85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385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385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85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385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385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385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85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385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385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385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85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38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38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38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85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385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385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385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85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38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38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85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385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385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385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85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38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38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38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5292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яние, в котором включенный компьютер не реагирует на действия пользовател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на компьютерном жаргоне называется совокупность аппаратных средст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мирная глобальная се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текстовый редактор или текстовый процесс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именьшая единица количества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ьная программа для управления внешними устройства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нипулятор в виде укрепленной на шарнире ручки с кнопкой, употребляется в основном для компьютерных игр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357600" y="428400"/>
            <a:ext cx="253044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Прямоугольник 5"/>
          <p:cNvSpPr/>
          <p:nvPr/>
        </p:nvSpPr>
        <p:spPr>
          <a:xfrm>
            <a:off x="6723360" y="17146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ЛЕЗ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6572160" y="250020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6446520" y="3000240"/>
            <a:ext cx="21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КСТОВ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7005960" y="3929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6706800" y="4643280"/>
            <a:ext cx="1553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АЙВ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6652800" y="5572080"/>
            <a:ext cx="1910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ЙСТ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85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38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38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38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85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38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38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85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385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385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385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85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38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38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38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85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385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385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385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85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38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38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38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85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385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385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385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85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385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385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385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85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385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385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85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38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38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38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85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385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385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385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85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38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85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385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385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85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38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38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38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79600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ройство для считывания графической и текстовой информации в компьютер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ройство для обмена информацией с другими компьютерами через телефонную сеть. 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е действие будет выполняться при перетаскивании файла с помощью левой кнопки мыши с диск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 дис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пирование или перемещ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пункты строки меню текстового процессор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ая связь между городом в Англии, ружьем калибра 30х30 и одним из элементов компьютера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43800" y="285840"/>
            <a:ext cx="2203200" cy="38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6716160" y="1214280"/>
            <a:ext cx="133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Прямоугольник 5"/>
          <p:cNvSpPr/>
          <p:nvPr/>
        </p:nvSpPr>
        <p:spPr>
          <a:xfrm>
            <a:off x="6293160" y="2928960"/>
            <a:ext cx="247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ПИР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Прямоугольник 6"/>
          <p:cNvSpPr/>
          <p:nvPr/>
        </p:nvSpPr>
        <p:spPr>
          <a:xfrm>
            <a:off x="5500800" y="4071960"/>
            <a:ext cx="3500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,ВСТАВК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ТКА,СТРАНИЦ,ССЫЛКИ,РАССЫЛК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ИРОВАНИ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6215040" y="5878440"/>
            <a:ext cx="2733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они связа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м «ВИНЧЕСТЕР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385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38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38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38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85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38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38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38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85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385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385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385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385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38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38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38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85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385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385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385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85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38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38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38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85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385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385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385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385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38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38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38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85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385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385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385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385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385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385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385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385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385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385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385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85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385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385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385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38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38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38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38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385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385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385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385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появился манипулятор типа «мышь», то для него в русском языке некоторое время использовалось название по имени персонажа известной русской сказки. Назовите имя этого персонаж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ему на компьютерном жаргоне процессор называется камнем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00840" y="1071720"/>
            <a:ext cx="19209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об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5429160" y="414324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ой микросхемы процессора явля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мниевый кристал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ой чистот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85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385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385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385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85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38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38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38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385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385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385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385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385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38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38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385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385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385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385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385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385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385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385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c3aa"/>
                </a:solidFill>
                <a:latin typeface="Times New Roman"/>
              </a:rPr>
              <a:t>Конкурс «Дешифратор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жи мне, какой у тебя компьютер, и я скажу, кто 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ьютер памятью не испортиш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реному компьютеру в системный блок не заглядываю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иликоновую долину со своим компьютером не ездя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пающий за F1 хватае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2920" y="1357200"/>
            <a:ext cx="403884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жи мне, кто твой друг, и я скажу, кто 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шу маслом не испортиш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реному коню в зубы не смотря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Тулу со своим самоваром не ездя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пающий за соломинку хватается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8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38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38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85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38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38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385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385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385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85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385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385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385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385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385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385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385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385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385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385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385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85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385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385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т байт береже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из Корзины удалено, то пропал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русов бояться – в Интернет не ходит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одного хакера семь кандидатов наук даю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як Web-дизайнер свой сайт хвали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чше Корвет на столе, чем Pentium во сн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компьютерам встречают, по программам провожаю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горитмам учиться - всегда пригоди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дорога программа, дорог алгорит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пейка рубль береж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с возу упало, то пропал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ов бояться – в лес не ходит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одного битого семь небитых даю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як кулик свое болото хвали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чше синица в руках, чем журавль в неб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дежке встречают, по уму провожаю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кам учиться – всегда пригоди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дорог подарок, дорого вним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85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38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38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385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38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6" dur="38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8" dur="38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385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385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385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385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385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385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8" dur="385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0" dur="385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85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385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385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385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385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8" dur="385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0" dur="385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2" dur="385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385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9" dur="385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1" dur="385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3" dur="385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385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385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2" dur="385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4" dur="385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385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385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385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385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385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385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385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385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385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385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5" dur="385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7" dur="385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385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385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6" dur="385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8" dur="385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385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385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385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385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385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6" dur="385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8" dur="385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0" dur="385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385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7" dur="385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9" dur="385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385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85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8" dur="385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0" dur="385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2" dur="385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385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385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1" dur="385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3" dur="385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385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385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2" dur="385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4" dur="385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4c3aa"/>
                </a:solidFill>
                <a:latin typeface="Times New Roman"/>
              </a:rPr>
              <a:t>Конкурс «Лингвист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МПЬЮТЕРИЗАЦИ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213840"/>
            <a:ext cx="3419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министрато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з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обальн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ст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ртуальн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фическ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рузочн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ормационны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в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енн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дирован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нейн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цензионн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рич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11640" y="189000"/>
            <a:ext cx="2663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лог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с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скет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орма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горит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акто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ллек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мя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он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WordArt 6"/>
          <p:cNvSpPr txBox="1"/>
          <p:nvPr/>
        </p:nvSpPr>
        <p:spPr>
          <a:xfrm rot="5400000">
            <a:off x="994320" y="3070800"/>
            <a:ext cx="6643800" cy="93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  одной  связ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0" name="Прямая соединительная линия 5"/>
          <p:cNvSpPr/>
          <p:nvPr/>
        </p:nvSpPr>
        <p:spPr>
          <a:xfrm>
            <a:off x="3000240" y="500040"/>
            <a:ext cx="3000600" cy="1285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Прямая соединительная линия 7"/>
          <p:cNvSpPr/>
          <p:nvPr/>
        </p:nvSpPr>
        <p:spPr>
          <a:xfrm>
            <a:off x="2071800" y="928800"/>
            <a:ext cx="4000320" cy="4284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Прямая соединительная линия 10"/>
          <p:cNvSpPr/>
          <p:nvPr/>
        </p:nvSpPr>
        <p:spPr>
          <a:xfrm flipV="1">
            <a:off x="2428920" y="571680"/>
            <a:ext cx="3571920" cy="7855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Прямая соединительная линия 13"/>
          <p:cNvSpPr/>
          <p:nvPr/>
        </p:nvSpPr>
        <p:spPr>
          <a:xfrm>
            <a:off x="2286000" y="1785960"/>
            <a:ext cx="3786120" cy="428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Прямая соединительная линия 15"/>
          <p:cNvSpPr/>
          <p:nvPr/>
        </p:nvSpPr>
        <p:spPr>
          <a:xfrm>
            <a:off x="2571120" y="2286000"/>
            <a:ext cx="3429000" cy="38577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Прямая соединительная линия 17"/>
          <p:cNvSpPr/>
          <p:nvPr/>
        </p:nvSpPr>
        <p:spPr>
          <a:xfrm>
            <a:off x="2571840" y="2714760"/>
            <a:ext cx="3429000" cy="2571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Прямая соединительная линия 19"/>
          <p:cNvSpPr/>
          <p:nvPr/>
        </p:nvSpPr>
        <p:spPr>
          <a:xfrm flipV="1">
            <a:off x="2428920" y="3073320"/>
            <a:ext cx="3571920" cy="698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Прямая соединительная линия 21"/>
          <p:cNvSpPr/>
          <p:nvPr/>
        </p:nvSpPr>
        <p:spPr>
          <a:xfrm flipV="1">
            <a:off x="3071880" y="2714400"/>
            <a:ext cx="3000240" cy="8571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Прямая соединительная линия 23"/>
          <p:cNvSpPr/>
          <p:nvPr/>
        </p:nvSpPr>
        <p:spPr>
          <a:xfrm>
            <a:off x="2286000" y="4000680"/>
            <a:ext cx="3714840" cy="2571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Прямая соединительная линия 25"/>
          <p:cNvSpPr/>
          <p:nvPr/>
        </p:nvSpPr>
        <p:spPr>
          <a:xfrm>
            <a:off x="2928960" y="4429080"/>
            <a:ext cx="3143160" cy="1285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Прямая соединительная линия 28"/>
          <p:cNvSpPr/>
          <p:nvPr/>
        </p:nvSpPr>
        <p:spPr>
          <a:xfrm flipV="1">
            <a:off x="2500200" y="3571920"/>
            <a:ext cx="3500640" cy="1285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Прямая соединительная линия 30"/>
          <p:cNvSpPr/>
          <p:nvPr/>
        </p:nvSpPr>
        <p:spPr>
          <a:xfrm flipV="1">
            <a:off x="2143080" y="4000680"/>
            <a:ext cx="3929040" cy="1357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Прямая соединительная линия 32"/>
          <p:cNvSpPr/>
          <p:nvPr/>
        </p:nvSpPr>
        <p:spPr>
          <a:xfrm flipV="1">
            <a:off x="2214000" y="928440"/>
            <a:ext cx="3857400" cy="4786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Прямая соединительная линия 34"/>
          <p:cNvSpPr/>
          <p:nvPr/>
        </p:nvSpPr>
        <p:spPr>
          <a:xfrm flipV="1">
            <a:off x="2643120" y="4857840"/>
            <a:ext cx="3429000" cy="1357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Прямая соединительная линия 36"/>
          <p:cNvSpPr/>
          <p:nvPr/>
        </p:nvSpPr>
        <p:spPr>
          <a:xfrm flipV="1">
            <a:off x="2428920" y="4429080"/>
            <a:ext cx="3571920" cy="2214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7:10:19Z</dcterms:created>
  <dc:creator>Наталья</dc:creator>
  <dc:description/>
  <dc:language>en-US</dc:language>
  <cp:lastModifiedBy>user</cp:lastModifiedBy>
  <dcterms:modified xsi:type="dcterms:W3CDTF">2015-03-20T15:06:36Z</dcterms:modified>
  <cp:revision>52</cp:revision>
  <dc:subject/>
  <dc:title>Внеклассное мероприятие по информатике «Турнир знатоков компьютера»</dc:title>
</cp:coreProperties>
</file>